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784-B6C0-4561-BF70-2DC10402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2BB-FB7C-455A-9F17-63DEA8A4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A59-26F7-4B17-89BD-5EC656C0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A62-9485-44B0-9CEB-C573B2C5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5AB-1699-446B-8ED4-F04DD275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4EE-D241-4D95-B5B9-4C29A6C5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2E2-7D0F-4578-A718-35A91F39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581-351D-4590-B438-9071101D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0CA-4365-4C7C-BE10-1F15600C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81D-7605-461E-86C8-05BA24C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BB4-A34F-4B2A-BED2-C5777A3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62F-EDA0-458E-8487-558CF8C3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D98A-EC61-4953-9BB9-2046AE4199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5000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0" descr="Perth &amp; District Tourists.JPG"/>
          <p:cNvPicPr/>
          <p:nvPr/>
        </p:nvPicPr>
        <p:blipFill>
          <a:blip r:embed="rId1"/>
          <a:stretch/>
        </p:blipFill>
        <p:spPr>
          <a:xfrm>
            <a:off x="237960" y="28584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Perth Bowlers.JPG"/>
          <p:cNvPicPr/>
          <p:nvPr/>
        </p:nvPicPr>
        <p:blipFill>
          <a:blip r:embed="rId2"/>
          <a:stretch/>
        </p:blipFill>
        <p:spPr>
          <a:xfrm>
            <a:off x="1738440" y="214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Perth Tartan Tour.JPG"/>
          <p:cNvPicPr/>
          <p:nvPr/>
        </p:nvPicPr>
        <p:blipFill>
          <a:blip r:embed="rId3"/>
          <a:stretch/>
        </p:blipFill>
        <p:spPr>
          <a:xfrm>
            <a:off x="3452760" y="3571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Perth Ex Presidents.JPG"/>
          <p:cNvPicPr/>
          <p:nvPr/>
        </p:nvPicPr>
        <p:blipFill>
          <a:blip r:embed="rId4"/>
          <a:stretch/>
        </p:blipFill>
        <p:spPr>
          <a:xfrm>
            <a:off x="4952880" y="71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Perth League.JPG"/>
          <p:cNvPicPr/>
          <p:nvPr/>
        </p:nvPicPr>
        <p:blipFill>
          <a:blip r:embed="rId5"/>
          <a:stretch/>
        </p:blipFill>
        <p:spPr>
          <a:xfrm>
            <a:off x="6738840" y="428760"/>
            <a:ext cx="1006560" cy="973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5"/>
          <p:cNvSpPr/>
          <p:nvPr/>
        </p:nvSpPr>
        <p:spPr>
          <a:xfrm>
            <a:off x="0" y="1357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&amp;  DISTRICT TOURISTS  PERTH &amp;  DISTRICT  BOWLERS        PERTH  TARTAN  TOUR                 PERTH  EX  PRESIDENTS          PERTH  &amp;  DISTRICT  LEAG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0-02-02T17:08:45Z</dcterms:modified>
  <cp:revision>35</cp:revision>
  <dc:subject/>
  <dc:title>Slide 1</dc:title>
</cp:coreProperties>
</file>